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9770-B125-4600-A412-1E484109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33C-0EA0-42A1-B2F9-53173EEE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4ED-65D7-463E-8AA5-A77B1AEC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962A-48FC-4A65-B543-1C40840C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7448-91F6-4715-A81D-F59CED19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4DB3-D75F-46D7-B93B-A8DD8F5D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2B8B-55E0-4BE7-8CAF-F2F018BB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6988-2B95-42B7-B27A-4334F400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B687-0A1D-4F7A-A9AC-0A2E0C96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E096-0C03-4B40-95D9-9FE89F9A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3FBC-94ED-4653-B648-80EB7557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3E9-373B-4D7C-A2FD-6900DDAE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1CF8-C40B-45F0-A73B-C6540DC9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1BD5-5009-4AB4-BE1A-6FBF615E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62D2-D47D-4FE7-93B8-DBB34D23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7907-4AF7-4121-BCA2-39C8E2D9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51F6-9FE4-4861-9096-60DB222A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33AA7-E8BC-49D7-9ACD-29A3EEC3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A0616-EDBB-4098-829D-E3D4E7B7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56FAB-9275-41FE-A441-8870DF84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4C9A5-3083-4458-A079-8DE8FD70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ADE92-16C6-4D87-B273-6E514661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D4ED-CE47-4D77-8FA9-1BB18450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A4FA5-7C69-4AC6-BE54-1B87B54D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53708-45C2-493C-8D30-97D12547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BB79F-A7D7-4123-A41C-9D267BDE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C76E4-E1D2-488A-B664-A0BC32F8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0D8F1-0081-4ABD-84CB-48A527D7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BF6C0-83E3-4A05-84A8-B6A734D1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D8271-F132-41E3-9A58-DB340D51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4FD-8A21-4313-8528-AF870141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E1AE-E2FB-4C21-9F7B-EB5F2AF0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7D29-E00C-4142-91A6-D5A73EBC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6530-FF9D-4E69-B088-0C255AB2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B677-4612-423F-8B18-96D7A4DF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921-FD9C-430A-AAD1-E9AA186B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54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172200"/>
            <a:ext cx="408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8A80-4454-4628-A6AE-2EEC6FB8A019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5C7B-39A5-47F8-A756-1BD6C04EAD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5E72-FBC5-4614-88C8-40D95CE2DFBB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77230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etraedul Regul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440" y="2895480"/>
            <a:ext cx="7010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ărcuţ Şerb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antea Andr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antea Cătăl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Georgia"/>
              </a:rPr>
              <a:t>Def:Tetraedul regulat este piramida cu baza triunghi echilateral şi înaltimea în centrul bazei.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6" name="Picture 6" descr="kkk"/>
          <p:cNvPicPr/>
          <p:nvPr/>
        </p:nvPicPr>
        <p:blipFill>
          <a:blip r:embed="rId2"/>
          <a:stretch/>
        </p:blipFill>
        <p:spPr>
          <a:xfrm>
            <a:off x="1295280" y="2819520"/>
            <a:ext cx="5943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e5ffff"/>
                </a:solidFill>
                <a:latin typeface="Georgia"/>
              </a:rPr>
              <a:t>Element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67080" y="228600"/>
            <a:ext cx="47246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vârful piramidei: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vârfurile bazei: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 A, B, 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inălţimea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VO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este distanta de la vârf la bază notată cu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feţele laterale sunt triunghiuri: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VAB, VBC, VC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faţa bazei: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AB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uchii: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AB, BC, A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laturile: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VA, VB, VC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potema bazei :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OM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_|_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BC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,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aparţine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BC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potema piramidei: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VM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_|_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BC M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parţine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B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fgd"/>
          <p:cNvPicPr/>
          <p:nvPr/>
        </p:nvPicPr>
        <p:blipFill>
          <a:blip r:embed="rId2"/>
          <a:stretch/>
        </p:blipFill>
        <p:spPr>
          <a:xfrm>
            <a:off x="0" y="1828800"/>
            <a:ext cx="4219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ormul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304560"/>
            <a:ext cx="4572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A</a:t>
            </a:r>
            <a:r>
              <a:rPr b="0" lang="en-US" sz="2000" spc="-1" strike="noStrike">
                <a:solidFill>
                  <a:srgbClr val="162e45"/>
                </a:solidFill>
                <a:latin typeface="Georgia"/>
              </a:rPr>
              <a:t>b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 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62e45"/>
                </a:solidFill>
                <a:latin typeface="Georgi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62e45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a</a:t>
            </a:r>
            <a:r>
              <a:rPr b="0" lang="en-US" sz="1800" spc="-1" strike="noStrike">
                <a:solidFill>
                  <a:srgbClr val="162e45"/>
                </a:solidFill>
                <a:latin typeface="Georgia"/>
              </a:rPr>
              <a:t>b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  =</a:t>
            </a:r>
            <a:r>
              <a:rPr b="0" i="1" lang="en-US" sz="2800" spc="-1" strike="noStrike">
                <a:solidFill>
                  <a:srgbClr val="162e45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AM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          </a:t>
            </a:r>
            <a:r>
              <a:rPr b="0" lang="en-US" sz="1800" spc="-1" strike="noStrike">
                <a:solidFill>
                  <a:srgbClr val="162e45"/>
                </a:solidFill>
                <a:latin typeface="Georgia"/>
              </a:rPr>
              <a:t>n  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=       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A</a:t>
            </a:r>
            <a:r>
              <a:rPr b="0" lang="en-US" sz="1800" spc="-1" strike="noStrike">
                <a:solidFill>
                  <a:srgbClr val="162e45"/>
                </a:solidFill>
                <a:latin typeface="Georgia"/>
              </a:rPr>
              <a:t>l  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A</a:t>
            </a:r>
            <a:r>
              <a:rPr b="0" lang="en-US" sz="1800" spc="-1" strike="noStrike">
                <a:solidFill>
                  <a:srgbClr val="162e45"/>
                </a:solidFill>
                <a:latin typeface="Georgia"/>
              </a:rPr>
              <a:t>t  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= A</a:t>
            </a:r>
            <a:r>
              <a:rPr b="0" lang="en-US" sz="1800" spc="-1" strike="noStrike">
                <a:solidFill>
                  <a:srgbClr val="162e45"/>
                </a:solidFill>
                <a:latin typeface="Georgia"/>
              </a:rPr>
              <a:t>l 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+ A</a:t>
            </a:r>
            <a:r>
              <a:rPr b="0" lang="en-US" sz="1800" spc="-1" strike="noStrike">
                <a:solidFill>
                  <a:srgbClr val="162e45"/>
                </a:solidFill>
                <a:latin typeface="Georgi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2e45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V =     </a:t>
            </a:r>
            <a:r>
              <a:rPr b="0" lang="en-US" sz="1800" spc="-1" strike="noStrike">
                <a:solidFill>
                  <a:srgbClr val="162e45"/>
                </a:solidFill>
                <a:latin typeface="Georgia"/>
              </a:rPr>
              <a:t>x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 A</a:t>
            </a:r>
            <a:r>
              <a:rPr b="0" lang="en-US" sz="1800" spc="-1" strike="noStrike">
                <a:solidFill>
                  <a:srgbClr val="162e45"/>
                </a:solidFill>
                <a:latin typeface="Georgia"/>
              </a:rPr>
              <a:t>b x </a:t>
            </a: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2e45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62e45"/>
                </a:solidFill>
                <a:latin typeface="Georgia"/>
              </a:rPr>
              <a:t>      </a:t>
            </a:r>
            <a:r>
              <a:rPr b="0" i="1" lang="en-US" sz="2800" spc="-1" strike="noStrike">
                <a:solidFill>
                  <a:srgbClr val="162e45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62e45"/>
                </a:solidFill>
                <a:latin typeface="Georgi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62e45"/>
                </a:solidFill>
                <a:latin typeface="Georgi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fgd"/>
          <p:cNvPicPr/>
          <p:nvPr/>
        </p:nvPicPr>
        <p:blipFill>
          <a:blip r:embed="rId1"/>
          <a:stretch/>
        </p:blipFill>
        <p:spPr>
          <a:xfrm>
            <a:off x="0" y="1676520"/>
            <a:ext cx="4219560" cy="51814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12" descr=""/>
          <p:cNvPicPr/>
          <p:nvPr/>
        </p:nvPicPr>
        <p:blipFill>
          <a:blip r:embed="rId2"/>
          <a:stretch/>
        </p:blipFill>
        <p:spPr>
          <a:xfrm>
            <a:off x="6019920" y="762120"/>
            <a:ext cx="609480" cy="8157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4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15" descr=""/>
          <p:cNvPicPr/>
          <p:nvPr/>
        </p:nvPicPr>
        <p:blipFill>
          <a:blip r:embed="rId3"/>
          <a:stretch/>
        </p:blipFill>
        <p:spPr>
          <a:xfrm>
            <a:off x="5943600" y="1981080"/>
            <a:ext cx="228600" cy="785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7"/>
          <p:cNvSpPr/>
          <p:nvPr/>
        </p:nvSpPr>
        <p:spPr>
          <a:xfrm>
            <a:off x="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18" descr=""/>
          <p:cNvPicPr/>
          <p:nvPr/>
        </p:nvPicPr>
        <p:blipFill>
          <a:blip r:embed="rId4"/>
          <a:stretch/>
        </p:blipFill>
        <p:spPr>
          <a:xfrm>
            <a:off x="7315200" y="1905120"/>
            <a:ext cx="457200" cy="8395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0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21" descr=""/>
          <p:cNvPicPr/>
          <p:nvPr/>
        </p:nvPicPr>
        <p:blipFill>
          <a:blip r:embed="rId5"/>
          <a:stretch/>
        </p:blipFill>
        <p:spPr>
          <a:xfrm>
            <a:off x="5257800" y="3048120"/>
            <a:ext cx="380880" cy="523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3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4" descr=""/>
          <p:cNvPicPr/>
          <p:nvPr/>
        </p:nvPicPr>
        <p:blipFill>
          <a:blip r:embed="rId6"/>
          <a:stretch/>
        </p:blipFill>
        <p:spPr>
          <a:xfrm>
            <a:off x="6095880" y="3124080"/>
            <a:ext cx="381240" cy="5079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6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27" descr=""/>
          <p:cNvPicPr/>
          <p:nvPr/>
        </p:nvPicPr>
        <p:blipFill>
          <a:blip r:embed="rId7"/>
          <a:stretch/>
        </p:blipFill>
        <p:spPr>
          <a:xfrm>
            <a:off x="6934320" y="3111480"/>
            <a:ext cx="380880" cy="5079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9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30" descr=""/>
          <p:cNvPicPr/>
          <p:nvPr/>
        </p:nvPicPr>
        <p:blipFill>
          <a:blip r:embed="rId8"/>
          <a:stretch/>
        </p:blipFill>
        <p:spPr>
          <a:xfrm>
            <a:off x="6019920" y="4114800"/>
            <a:ext cx="761760" cy="6048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2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15" descr=""/>
          <p:cNvPicPr/>
          <p:nvPr/>
        </p:nvPicPr>
        <p:blipFill>
          <a:blip r:embed="rId9"/>
          <a:stretch/>
        </p:blipFill>
        <p:spPr>
          <a:xfrm>
            <a:off x="5867280" y="5562720"/>
            <a:ext cx="228600" cy="78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Georgia"/>
              </a:rPr>
              <a:t>PROBLEMĂ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O piramidă triunghiulară regulată VABC are înălţimea VO= 13 cm şi latura bazei AB=12 cm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ă se determine suma distanţelor de la vârf la laturile baze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ă se calculeze volumul piramide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ă se calculeze aria laterala a piramide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ă se calculeze distanţa de la mijlocul înălţimii la o faţă latera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ulegere: pag 143, Varianta 14, subiectul al lll-lea, pr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5:43:43Z</dcterms:created>
  <dc:creator>KaTa</dc:creator>
  <dc:description/>
  <dc:language>en-US</dc:language>
  <cp:lastModifiedBy>KaTa</cp:lastModifiedBy>
  <dcterms:modified xsi:type="dcterms:W3CDTF">2011-02-21T17:39:49Z</dcterms:modified>
  <cp:revision>11</cp:revision>
  <dc:subject/>
  <dc:title>Tetraedul Regulat</dc:title>
</cp:coreProperties>
</file>